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ADE8-766B-4786-BDB4-FBD28ED8E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C763F-0FDA-4928-8CF2-E52DC927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B405B-796E-4689-945D-7118BDF91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88EE-FAA4-4FF6-8CC7-566E47C564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4AD4F1-4B83-4D29-B883-CD4332041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B0398-FCA4-470A-8FF6-6D548BBCB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53E6-4728-4778-9B37-7079A0C8C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DC973-E6C3-421B-837A-16B200C51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41522-3F13-48FC-ADE4-D7F68AFAB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A2908-4EC8-4A7C-9F63-56D26F263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C22E27-DC0F-4355-9756-030F00429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DFA5E-AB52-472A-A427-406D4161B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AA21-21C8-4FEA-86EC-0A8E3A06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EDC7C-0D64-4A86-8695-C98F318ED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52DA6-847F-4969-A1C7-252D2E77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A24AF-FB32-483F-B98E-C6DCE4C153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AF257F-470E-4E14-A504-D7F683709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DEFF-5F91-4844-ACF9-762FA9098A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253C-A3FB-4095-A191-53699B4A6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4166-37D5-4C28-9D89-FE2BC115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83B6-E725-452B-8EEC-010C7B67D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6520C-1A7F-44A7-AE4A-1B832FC9B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AD39-5804-422A-9150-CFA528C4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C3AE-6C0C-4912-9DDB-27C30818D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EC69-E947-478E-A15E-0C03A11CCA9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19C4-A20A-43DD-89C1-92E8F3ADC9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5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사의 교직윤리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초등특수교육과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국가공무원법에 비추어 본 교직윤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선서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실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직장 내 근무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친절공정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비밀준수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청렴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외국정부의 영예허가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품위유지의 의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영리의무 및 겸직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정치활동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집단행위의 금지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도덕적•비공식적 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 윤리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의 신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8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무원신조 실천강령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09-21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윤리강령•사도강령•사도헌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212-21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교사의 교직윤리에 대한 인식 수준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16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&lt;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-3&gt;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자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정직성과 봉사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준법성과 질서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청렴성과 품위의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직장에서의 교사의 경애와 신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과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차 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과 동물의 차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에 대한 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앎’과 ‘실천’에 대한 규범과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名不虛傳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개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간 행동의 옳고 그름에 대한 표준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좋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봉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즐겁고 기쁘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민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옳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방식과 방향이 옳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행정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해야 한다’와 ‘하지’말아야 한다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정직과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힘없는 정의는 무력하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의 없는 권력은 탄핵을 받는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에 침묵하는 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직하지 않은 사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윤리의 두 가지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도움이 되는 일을 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타인에게 해가 되는 일을 하지 않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 윤리의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윤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바른 것 중에서 가장 좋은 것을 기준으로 반드시 행하는 것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은 유기적 생명체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직 윤리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의 생명을 불어 넣는 원동력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건전한 학교 문화 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은 높은 도덕관과 표준적 윤리관을 소유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과 교직윤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군사부일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의 바람직한 발달 도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적인 사회의 재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윤리의 구성 요소 및 영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규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도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율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93-194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참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공직으로서의 교직윤리 지향가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의 절대론적 시각에 기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직윤리 체제의 가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익의 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평성의 중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청렴성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헌법상에 비추어 본 교직윤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전체에 대한 봉사자로서의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민에게 책임을 지는 공무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노동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권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0T00:08:09Z</dcterms:created>
  <dc:creator>XPuser</dc:creator>
  <dc:description/>
  <dc:language>en-US</dc:language>
  <cp:lastModifiedBy>staff</cp:lastModifiedBy>
  <dcterms:modified xsi:type="dcterms:W3CDTF">2008-11-13T01:46:33Z</dcterms:modified>
  <cp:revision>4</cp:revision>
  <dc:subject/>
  <dc:title>제 5장 교사의 교직윤리</dc:title>
</cp:coreProperties>
</file>